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188-CF8E-44DD-8238-7E19260F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688-7C0A-4BB8-AA7E-48D895DE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0E3-7076-4CD8-8D58-374F5973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F65-EFE7-491C-B253-635BC2D6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E1F-88B3-4AE2-96DE-A6803C62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E6E-6553-41A8-AF22-4C0DD9EC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24B-9E63-4F26-928F-00AB5D6C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099-91AD-4C0D-8B22-C4BBF846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6C2-249C-4ACD-A5D2-2404D3C1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27D-FA32-4F7F-8A4A-068C2A68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44D-E25D-4EAC-BBEB-DD88822A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2A1-4444-4F4B-967F-A4B27162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230F-B2C9-4FB3-B557-D2E3332D3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934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391160" cy="1117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47920" y="2852640"/>
            <a:ext cx="647676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95280" y="2719440"/>
            <a:ext cx="64771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6933960" cy="1917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371600" y="2852640"/>
            <a:ext cx="632448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9:59Z</dcterms:modified>
  <cp:revision>94</cp:revision>
  <dc:subject/>
  <dc:title>The Art in the State of the Art</dc:title>
</cp:coreProperties>
</file>